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71363" cy="9791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65F-6049-4E17-B7D7-0C05B8F3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109537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7680" y="5661000"/>
            <a:ext cx="109537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444-F2FB-4456-8952-9CD3EB2E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0440" y="2286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7680" y="5661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0440" y="5661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AC9-00E5-4296-A52E-5372B570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35269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1360" y="2286000"/>
            <a:ext cx="35269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15040" y="2286000"/>
            <a:ext cx="35269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7680" y="5661000"/>
            <a:ext cx="35269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1360" y="5661000"/>
            <a:ext cx="35269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15040" y="5661000"/>
            <a:ext cx="35269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20E-4970-432D-A155-625D2911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7680" y="2286000"/>
            <a:ext cx="10953720" cy="64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558-CF1A-4E29-8042-A81CA10B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10953720" cy="64612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879-02B7-408F-83A8-844CE088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5345280" cy="64612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0440" y="2286000"/>
            <a:ext cx="5345280" cy="64612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B60-67CA-43A8-86CC-9B5502B3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7EA-C803-4D51-927E-774F111E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7680" y="391680"/>
            <a:ext cx="10953720" cy="75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6DB-24D9-4105-99AD-A877FF9B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0440" y="2286000"/>
            <a:ext cx="5345280" cy="64612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7680" y="5661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1CD-BD54-45FD-898D-DCBAB93C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5345280" cy="64612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0440" y="2286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0440" y="5661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2D1-42C6-410E-A787-11FCE156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0440" y="2286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7680" y="5661000"/>
            <a:ext cx="109537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1E5-92AC-4D45-BD64-2C9B5516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7680" y="2286000"/>
            <a:ext cx="10953720" cy="64612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 fontScale="90000"/>
          </a:bodyPr>
          <a:p>
            <a:pPr marL="519840" indent="-5198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  <a:p>
            <a:pPr lvl="1" marL="1128600" indent="-43416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  <a:p>
            <a:pPr lvl="2" marL="1737000" indent="-3466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  <a:p>
            <a:pPr lvl="3" marL="2431440" indent="-34668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  <a:p>
            <a:pPr lvl="4" marL="3125880" indent="-34668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  <a:p>
            <a:pPr lvl="5" marL="3125880" indent="-34668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  <a:p>
            <a:pPr lvl="6" marL="3125880" indent="-34668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7680" y="9077040"/>
            <a:ext cx="2840040" cy="5223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lstStyle>
            <a:lvl1pPr indent="0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  <a:defRPr b="0" lang="ko-KR" sz="20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57280" y="9077040"/>
            <a:ext cx="3854520" cy="5223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1360" y="9077040"/>
            <a:ext cx="2840040" cy="5223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lstStyle>
            <a:lvl1pPr indent="0" algn="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  <a:defRPr b="0" lang="ko-KR" sz="20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fld id="{D02CF7A0-1B16-4223-B907-29F3EBBE0CDC}" type="slidenum">
              <a:rPr b="0" lang="ko-KR" sz="20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-31680" y="1440"/>
            <a:ext cx="12201480" cy="979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420720" y="5113080"/>
            <a:ext cx="7488360" cy="309564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[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행사 내용 등 전달 사항 입력 예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입사원에게 필요한 것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입사원의 패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야망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부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끊임없는 도전정신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력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21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세기 통섭형 소양과 재무제표와 원가분석 능력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주인의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모든 일에 주인의식을 가지고 임하라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* </a:t>
            </a:r>
            <a:r>
              <a:rPr b="0" lang="ko-KR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본문은 홍보실 홈페이지</a:t>
            </a:r>
            <a:r>
              <a:rPr b="0" lang="en-US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( http://www.sejongpr.ac.kr) </a:t>
            </a:r>
            <a:r>
              <a:rPr b="0" lang="ko-KR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참조</a:t>
            </a:r>
            <a:r>
              <a:rPr b="0" lang="en-US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3276720" y="9583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제목입력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4" name="그림 11" descr=""/>
          <p:cNvPicPr/>
          <p:nvPr/>
        </p:nvPicPr>
        <p:blipFill>
          <a:blip r:embed="rId2"/>
          <a:stretch/>
        </p:blipFill>
        <p:spPr>
          <a:xfrm>
            <a:off x="3421080" y="2376360"/>
            <a:ext cx="2944800" cy="2436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480000" y="2376360"/>
            <a:ext cx="464508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[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행사 일정 등  전달 사항 입력 예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일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2014.3.10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오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장소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개토관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층 대공연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1440"/>
            <a:ext cx="12169800" cy="9790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356000" y="3528720"/>
            <a:ext cx="7129440" cy="532764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월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일 우리대학 대양홀에서 세아 베스틸 이승휘 부회장의 신입사원에게 필요한 것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'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라는 제목의 창업과 기업가 정신 특강이 열렸다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번 특강에서 이승휘 부회장은 신입사원으로 사회의 첫발을 디디게 될 우리대학 학생들에게 신입사원의 마음가짐 등 직장생활에 대한 유용한 조언을 제시했다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입사원에게 필요한 것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입사원의 패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야망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부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끊임없는 도전정신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력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21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세기 통섭형 소양과 재무제표와 원가분석 능력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주인의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모든 일에 주인의식을 가지고 임하라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* </a:t>
            </a:r>
            <a:r>
              <a:rPr b="0" lang="ko-KR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본문은 홍보실 홈페이지</a:t>
            </a:r>
            <a:r>
              <a:rPr b="0" lang="en-US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( http://www.sejongpr.ac.kr) </a:t>
            </a:r>
            <a:r>
              <a:rPr b="0" lang="ko-KR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참조</a:t>
            </a:r>
            <a:r>
              <a:rPr b="0" lang="en-US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725400" y="1144800"/>
            <a:ext cx="34149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&lt;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명사 초청 강의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신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565520" y="2665440"/>
            <a:ext cx="6775560" cy="70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아 베스틸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0070c0"/>
                </a:solidFill>
                <a:latin typeface="HY견고딕"/>
                <a:ea typeface="HY견고딕"/>
              </a:rPr>
              <a:t>이승휘 부회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직사각형 12"/>
          <p:cNvSpPr/>
          <p:nvPr/>
        </p:nvSpPr>
        <p:spPr>
          <a:xfrm>
            <a:off x="4356000" y="3024360"/>
            <a:ext cx="4888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" name="그림 11" descr=""/>
          <p:cNvPicPr/>
          <p:nvPr/>
        </p:nvPicPr>
        <p:blipFill>
          <a:blip r:embed="rId2"/>
          <a:stretch/>
        </p:blipFill>
        <p:spPr>
          <a:xfrm>
            <a:off x="4435560" y="936720"/>
            <a:ext cx="294480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-19080"/>
            <a:ext cx="12169800" cy="9790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62080" y="6408360"/>
            <a:ext cx="7623000" cy="18003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월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일 우리대학 김기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행정학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·08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학생이 한국경제신문이 개발한 종합경제 시험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'TESAT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회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Test of Economic Sense And Thinking, 30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 만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‘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97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이라는 높은 점수를 받아 최우수상을 수상했다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직사각형 6"/>
          <p:cNvSpPr/>
          <p:nvPr/>
        </p:nvSpPr>
        <p:spPr>
          <a:xfrm>
            <a:off x="3862440" y="1584360"/>
            <a:ext cx="7623000" cy="4592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" name="그림 9" descr=""/>
          <p:cNvPicPr/>
          <p:nvPr/>
        </p:nvPicPr>
        <p:blipFill>
          <a:blip r:embed="rId2"/>
          <a:stretch/>
        </p:blipFill>
        <p:spPr>
          <a:xfrm>
            <a:off x="4078440" y="1857240"/>
            <a:ext cx="5246640" cy="4016520"/>
          </a:xfrm>
          <a:prstGeom prst="rect">
            <a:avLst/>
          </a:prstGeom>
          <a:ln w="0">
            <a:noFill/>
          </a:ln>
        </p:spPr>
      </p:pic>
      <p:sp>
        <p:nvSpPr>
          <p:cNvPr id="56" name="직사각형 8"/>
          <p:cNvSpPr/>
          <p:nvPr/>
        </p:nvSpPr>
        <p:spPr>
          <a:xfrm>
            <a:off x="9540720" y="1873080"/>
            <a:ext cx="1729080" cy="40006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제</a:t>
            </a:r>
            <a:r>
              <a:rPr b="0" lang="en-US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18</a:t>
            </a: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한국경제신문 </a:t>
            </a:r>
            <a:r>
              <a:rPr b="0" lang="en-US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TESAT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최우수상 수상</a:t>
            </a:r>
            <a:r>
              <a:rPr b="0" lang="en-US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3852720" y="691560"/>
            <a:ext cx="7632720" cy="4597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97200"/>
                <a:tab algn="l" pos="7394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학생소식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–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행정학과 김기완 학생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TESAT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최우수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1440"/>
            <a:ext cx="12169800" cy="9790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2360" y="6264360"/>
            <a:ext cx="7002360" cy="223200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월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일 우리대학 김기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행정학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·08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학생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국경제신문이 개발한 종합경제 시험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TESAT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회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Test of Economic Sense And Thinking, 30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 만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’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97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이라는 높은 점수를 받아 최우수상을 수상했다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84360" y="1229040"/>
            <a:ext cx="2877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:: </a:t>
            </a:r>
            <a:r>
              <a:rPr b="0" lang="ko-KR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학생소식 </a:t>
            </a:r>
            <a:r>
              <a:rPr b="0" lang="en-US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::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행정학과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김기완 학생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TESAT</a:t>
            </a:r>
            <a:r>
              <a:rPr b="0" lang="ko-KR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 </a:t>
            </a:r>
            <a:r>
              <a:rPr b="0" lang="ko-KR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최우수상</a:t>
            </a:r>
            <a:r>
              <a:rPr b="0" lang="en-US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직사각형 6"/>
          <p:cNvSpPr/>
          <p:nvPr/>
        </p:nvSpPr>
        <p:spPr>
          <a:xfrm>
            <a:off x="4068720" y="1008000"/>
            <a:ext cx="700236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2" name="그림 9" descr=""/>
          <p:cNvPicPr/>
          <p:nvPr/>
        </p:nvPicPr>
        <p:blipFill>
          <a:blip r:embed="rId2"/>
          <a:stretch/>
        </p:blipFill>
        <p:spPr>
          <a:xfrm>
            <a:off x="4356000" y="1528920"/>
            <a:ext cx="4608720" cy="401616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8"/>
          <p:cNvSpPr/>
          <p:nvPr/>
        </p:nvSpPr>
        <p:spPr>
          <a:xfrm>
            <a:off x="9180360" y="1528920"/>
            <a:ext cx="1729080" cy="40161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행정학과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김기완 학생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제</a:t>
            </a:r>
            <a:r>
              <a:rPr b="0" lang="en-US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18</a:t>
            </a: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회 한국경제신문 </a:t>
            </a:r>
            <a:r>
              <a:rPr b="0" lang="en-US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TESAT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최우수상 수상</a:t>
            </a:r>
            <a:r>
              <a:rPr b="0" lang="en-US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7"/>
          <p:cNvSpPr/>
          <p:nvPr/>
        </p:nvSpPr>
        <p:spPr>
          <a:xfrm>
            <a:off x="665280" y="1014120"/>
            <a:ext cx="945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교수소식</a:t>
            </a:r>
            <a:r>
              <a:rPr b="0" lang="en-US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나노신소재공학과 최택집 교수 연구팀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36360" y="3240"/>
            <a:ext cx="12206160" cy="9786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1170000" y="316080"/>
            <a:ext cx="10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교수소식</a:t>
            </a:r>
            <a:r>
              <a:rPr b="0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나노신소재공학과 최택집 교수 연구팀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562800" y="2116080"/>
            <a:ext cx="5607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500" spc="-1" strike="noStrike">
                <a:solidFill>
                  <a:srgbClr val="0070c0"/>
                </a:solidFill>
                <a:latin typeface="HY견고딕"/>
                <a:ea typeface="HY견고딕"/>
              </a:rPr>
              <a:t>나노 입자 비스무스 산화철을 이용한 높은 집적도와 낮은 전력 소비 특성을 갖는 소자 개발 앞당겨</a:t>
            </a:r>
            <a:r>
              <a:rPr b="0" lang="en-US" sz="2500" spc="-1" strike="noStrike">
                <a:solidFill>
                  <a:srgbClr val="0070c0"/>
                </a:solidFill>
                <a:latin typeface="HY견고딕"/>
                <a:ea typeface="HY견고딕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742080" y="3672000"/>
            <a:ext cx="524664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지난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일 우리대학 나노신소재공학과 최택집 교수와 대학원생 이호상 연구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석사과정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주호용 연구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석사과정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구팀과 건국대 박배호 교수 연구팀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성균관대 김윤석 교수가 공동 연구한 논문 ‘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Large Resistive Switching in Ferroelectric BiFe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Nano-Island Based Switchable Diodes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결정 강유전체 비스무스산화철 나노입자 기반 스위칭 다이오드의 거대 저항변화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’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재료 분야의 높은 권위를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랑하는 학술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ADVANCED MATERIALS (IF:13.877)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발표하였다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9" name="그림 2" descr=""/>
          <p:cNvPicPr/>
          <p:nvPr/>
        </p:nvPicPr>
        <p:blipFill>
          <a:blip r:embed="rId2"/>
          <a:stretch/>
        </p:blipFill>
        <p:spPr>
          <a:xfrm>
            <a:off x="3132000" y="2116080"/>
            <a:ext cx="341172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9793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665280" y="1014120"/>
            <a:ext cx="945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교수소식</a:t>
            </a:r>
            <a:r>
              <a:rPr b="0" lang="en-US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나노신소재공학과 최택집 교수 연구팀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그림 2" descr=""/>
          <p:cNvPicPr/>
          <p:nvPr/>
        </p:nvPicPr>
        <p:blipFill>
          <a:blip r:embed="rId2"/>
          <a:stretch/>
        </p:blipFill>
        <p:spPr>
          <a:xfrm>
            <a:off x="665280" y="2116080"/>
            <a:ext cx="5275080" cy="6021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9"/>
          <p:cNvSpPr/>
          <p:nvPr/>
        </p:nvSpPr>
        <p:spPr>
          <a:xfrm>
            <a:off x="654120" y="8408880"/>
            <a:ext cx="528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&lt;ADVANCED</a:t>
            </a:r>
            <a:r>
              <a:rPr b="0" lang="ko-KR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　</a:t>
            </a:r>
            <a:r>
              <a:rPr b="0" lang="en-US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MATERIALS </a:t>
            </a:r>
            <a:r>
              <a:rPr b="0" lang="ko-KR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誌에 </a:t>
            </a:r>
            <a:r>
              <a:rPr b="0" lang="en-US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‘</a:t>
            </a:r>
            <a:r>
              <a:rPr b="0" lang="ko-KR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강유전체 나노입자의 저항 변화 메모리 특성’규명한  논문발표</a:t>
            </a:r>
            <a:r>
              <a:rPr b="0" lang="en-US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238800" y="2116080"/>
            <a:ext cx="5246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500" spc="-1" strike="noStrike">
                <a:solidFill>
                  <a:srgbClr val="0070c0"/>
                </a:solidFill>
                <a:latin typeface="HY견고딕"/>
                <a:ea typeface="HY견고딕"/>
              </a:rPr>
              <a:t>나노 입자 비스무스산화철을 이용한 높은 집적도와 낮은 전력 소비 특성을 갖는 소자 개발 앞당겨</a:t>
            </a:r>
            <a:r>
              <a:rPr b="0" lang="en-US" sz="2500" spc="-1" strike="noStrike">
                <a:solidFill>
                  <a:srgbClr val="0070c0"/>
                </a:solidFill>
                <a:latin typeface="HY견고딕"/>
                <a:ea typeface="HY견고딕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직선 연결선 7"/>
          <p:cNvSpPr/>
          <p:nvPr/>
        </p:nvSpPr>
        <p:spPr>
          <a:xfrm>
            <a:off x="6238800" y="3529080"/>
            <a:ext cx="5148360" cy="0"/>
          </a:xfrm>
          <a:prstGeom prst="line">
            <a:avLst/>
          </a:prstGeom>
          <a:ln w="2844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6238800" y="3672000"/>
            <a:ext cx="524664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지난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일 우리대학 나노신소재공학과 최택집 교수와 대학원생 이호상 연구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석사과정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주호용 연구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석사과정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구팀과 건국대 박배호 교수 연구팀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성균관대 김윤석 교수가 공동 연구한 논문 ‘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Large Resistive Switching in Ferroelectric BiFe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Nano-Island Based Switchable Diodes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결정 강유전체 비스무스산화철 나노입자 기반 스위칭 다이오드의 거대 저항변화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’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재료 분야의 높은 권위를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랑하는 학술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ADVANCED MATERIALS (IF:13.877)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발표하였다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3:30:04Z</dcterms:created>
  <dc:creator>이광사</dc:creator>
  <dc:description/>
  <dc:language>en-US</dc:language>
  <cp:lastModifiedBy>sejongpr</cp:lastModifiedBy>
  <dcterms:modified xsi:type="dcterms:W3CDTF">2015-06-09T02:03:24Z</dcterms:modified>
  <cp:revision>212</cp:revision>
  <dc:subject/>
  <dc:title>PowerPoint 프레젠테이션</dc:title>
</cp:coreProperties>
</file>